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58C-2FF5-44A7-82D6-A956972F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8BB-B3C1-4B66-9233-53CBB8B8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2E6AF-E3E9-458E-99E9-1586F8E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419F8-1761-4066-BB3E-AADFC1FD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9F8D0-8419-4E43-B5CD-D876313D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846C3-622E-480E-BAB4-665D5419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867BD-DD3C-403D-99B8-33F9C04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AE62B-9A04-4875-8C40-546AF1D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12723-C8C3-4E96-84B9-2F517140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C286-BE38-4B11-B827-42000438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600E5-2438-4A21-B1AF-0221446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96C4D-8F1E-4F43-8B95-44FDAF21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659-58AC-4D4B-8059-74AC049B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3BD34-8221-4759-A5AA-FE2ED69A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4E202-74FA-40E2-8970-B6E38978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D69CF-DB19-4729-B4EA-BF814DD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908CF-1056-4DEF-A8B4-F91C7D2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A8E29-6215-4644-A301-06B4C682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7E266-EBF1-43E9-BA3B-F6723325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0A002-348E-4505-9726-77E9718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480B8-3F1F-40B1-A1F2-42AFC82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F0D5A-1A45-49C0-BA80-F567A37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4F3BE-B971-479E-AAE4-02C5D989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B60-8A22-4003-8DE9-22F6ECE5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10A25-0053-423B-ACE1-C5A4CACF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1A8C7-3BB7-4DF0-93BE-151312C1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5EA0F-0B6C-49A0-B033-9128167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17241-2DDA-4475-8065-789BA0D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62CAF-E010-4852-A7A4-68CA8DB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B1C01-33D5-4AED-ACCF-CC29D7C4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0B819-9A33-4912-9200-1A8A2A45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8D543-1842-4151-AAA9-3CFB46C0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94979-5AAD-44D4-BC84-A89493D8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54394-B073-4A1C-8C16-EC6853C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92E7-CC1A-42FC-B95C-2267DA20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78A2-2FBC-44EE-882F-8CEEFA2B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1F3D0-F063-488A-BF90-DBFDB30E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149F0-E94C-49A6-833D-373101A6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15F6C-C64F-4639-9CAA-0C04F07B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75196-60B5-42C1-8EF6-5EA0516C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149BC-2A36-4DD6-956D-87D510F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22E0B-F0F3-4EE7-9E8B-DF079DA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8D69D-F111-401B-BEDB-AFFB1F8C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0189F-33D2-4EA1-9437-2E63FAD4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DAFB9-8D93-4FB8-9FEE-61EBB87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2BCF-A448-4AA9-B71C-0EEF195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E4B1B-B67C-4648-A1A3-7FF0A17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F38F1-72CC-4D73-8963-4E607CA8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B4DD9-B43A-4A47-A295-D6CA52E8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C5430-9072-49D0-9988-CF5F3DFD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0770D-708C-4549-A90D-7B7296D5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A7A36-8328-4536-8883-A0CE7896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BA9AF-0857-499F-A53A-094776D1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625F5-ED51-4472-8859-DC08ACD5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F0121-9392-4A5C-8C95-435466A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4FE67-ED2A-4FB7-A0E3-7130399D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39E0-30F7-490B-B969-13BDD7E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2987E-6981-4190-B06C-7133A7B0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3B00D-662F-4015-853A-9640D98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9B0F0-A805-4641-8DCE-A9D8F36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579A9-B18C-4FA4-B05D-47704A3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361D1-604A-4435-BC5B-001E4B5C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F3450-DBE5-43D9-A751-32DB32E4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1C935-ADE5-463A-AF12-FFCC69A2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6BFD4-9FDD-4AF9-9537-27E23041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008A7-7900-4D0E-B64D-F28402A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4250C-ADC3-432F-A100-48CA96B8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E4F0-7B2A-4BFD-BEA7-7515D05A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BAC27-D9A5-4228-B1EB-21F265B7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768CC-3A98-40BD-8564-DE2E622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556F1-86A9-4527-A085-F13152B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2587C-1935-4407-9011-3E860C3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E2123-978B-40B9-AB93-7031FBE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ABA81-E4C3-4D8D-B4F3-DF65C85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41D43-CB5C-43F0-B20A-2ADF7B01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FE77D-8DCA-4558-98C6-63A4177D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E9BAC-3C73-4BB2-A2A9-412F712B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DBDD4-ADEA-4069-8628-8A3AB618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362-1F3C-41AA-A3DA-6C71714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B68E8-9B31-4DC0-9ABB-565CD470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DBEA7-5F6A-4BED-883A-9FC2B04E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2ABCC-ABDA-46DD-8843-D675AAA9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93566-610F-45D3-BC4A-10AE75B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83D76-D02B-4F31-B4A0-0F1E6E97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ECEAE-4F6B-4251-A5A8-751FB37F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271DE-1B9B-4ECC-A0C6-100B3957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9E5E7-2DF1-4CCF-A989-09DE8A15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67D99-2260-4AA0-8E1E-3391D27E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27889-5F42-45D9-ADBA-D8C91E6B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AF67-63DB-49D6-A59F-F7866C1B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BCD80-5BD3-4191-97CF-8F6753A7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2C92A-AB3B-4AD8-AD70-7CB18874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AEFFF-D604-4B98-B205-5BE040D2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715EE-F1D2-4704-AAA3-A151D8EB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27F59-4A46-450E-8057-354F2B83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35490-E9D8-4C93-BF34-4822CD93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92840-4D35-4235-8333-B7FAA57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DB9E62-2231-4D9C-8332-B251DB6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C0A2D-47DB-468A-ACA6-54966476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2C7BB-4E04-4E1D-A2ED-270A61D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49D-66FB-400A-AE04-1CD2C4E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83F78-A28F-4381-82D7-9D3423B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6DBBF-7B98-4BA7-9885-B7964D71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AFEEC-D3CD-4A71-8319-AF67F5D8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8DEFC-9439-4C46-B266-01561947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69E67-50B8-4623-90E3-FEA32768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AB86C-093E-4659-8F72-4C8F5314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B6819-244A-48EF-BBF4-45446B7C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61E7E-F01E-43DE-A195-ED46DF7C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51E44-43C5-4766-BA07-2BEDF8E9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05E0F-ECEC-46D4-8516-417D8C1B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882-7F19-414A-A8A5-C781F933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FF18-1982-4899-84BE-FFDE40A2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A42B4-FD9F-4B00-B8AB-0E95DF1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8300A-EA7B-452C-87AE-C29F8EE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BE6E7-AA06-4C45-A769-BECBF9AA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DB48F-AE94-4CD4-A1FF-6D8329A9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346F5-7C9B-4B45-9323-316C0B08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A2E5D-EBC1-432B-ACE5-41200495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DA53D-25C3-4072-8ED4-E3B2AE88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53515-B0E2-4FC9-98E6-A1AB447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571C0-C06B-4815-939A-734D1AC6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E6413-BBDE-4E63-95F2-20165BB6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F7F3-1F5E-4D42-9056-8E022B6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5A46E-C777-4233-9A6D-AA1A116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4FAA3-E085-44C3-8487-B4F0735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2B1A9-A3C6-4C83-A2D6-FDEAC62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B4397-338F-468F-A956-73C09FC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7F648-C092-4AE5-9D96-D9ED8885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E6425-B20B-4071-BFE1-831327AB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066D6-0704-4328-8070-AA16DA4C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18160D-60F1-4F71-AE73-D2C99041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B9FA9-7D00-4388-90C5-FEAB39E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A2106-9D49-43FC-9EEF-2DCAE27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397-F888-4551-BA68-E5D329B7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2277B-9B90-4D6A-9D86-AB37EAF3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C21B5-6149-4749-B5EC-AF27DF3E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0A257-E6DD-4693-992B-A6AB6D22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2507B-6BC9-427A-BACB-9F94199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0EB08-7848-4A0E-9EA6-AC83E6F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132C3-D91D-44B4-B3B0-2E481B8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F1458-C3A6-4B2C-B5CE-0A70C3E1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77AF2-0F68-450B-A60B-9A58FF53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D7B39-E315-4A44-A39A-F5486E91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1A9E8-45D1-49AF-8E7F-BB19D43D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07C4-A569-4CE3-BD63-94746A22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23257-CA7E-419C-B884-AAC2851F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67E32-0FC7-418D-875E-63D328E6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92581-9645-486A-8881-F7848E6E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D64AA-1875-4EB5-BBF3-895C66F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6C10B-69EA-4D80-A419-E2D90E8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83BAF-751E-475D-A62D-A7DEAB9D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9D17A-20D6-4550-BEBF-0477A675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2AF6F-CABF-4899-A072-9172AA1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63EF1-1FC0-4CD1-8115-A59BA17E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69922-80BC-4326-AB8D-07FD54C6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ADC-D21D-43DF-8032-63C096C0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8364D-01E3-4D8F-A9B1-BAD54B05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3D395-D689-4068-BE6B-1257C18B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EF47C-47E0-4D6E-87AB-9E2861F0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4B99D-1C4F-4306-9728-9D7466CC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B0101-3EBA-4B46-9405-A47B95C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67ACB-A777-493B-9414-03D89876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49BBF-814E-49B1-89C6-734230E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CEBFD1-C80C-4F6C-AB1C-2E3BC3F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2DBBE6-2A90-4778-A3D3-521F9C5D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47BE9-3064-4917-A96D-1CBF4FC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0CEC-7981-4BDB-8C24-18ADED5E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AEF674-4B4B-4283-82FE-127564D6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2CD41-F7C3-485D-90D4-BCFB2690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7859A-89F1-4102-AC62-689F9E4C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5362-D5C7-445F-82A1-037F0ACC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FC6C-EDC2-46D4-B22E-E204F6F0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383C-C310-4308-AA9C-ED85D8E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0D37-B6EF-438F-8EC2-5FEDF76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E85-5143-4FA1-A319-5EC33373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E791-0E95-420E-8FA8-8BB9CD20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F083-C61A-44A8-BC8E-4305D209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C9A8-B96A-4DB0-B295-6594FC0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31CC-80F7-409F-8EE4-A9123CA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8F04-F5A7-4796-9998-D5CB42EF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465B-DD1E-4FD9-BE29-AD7F8A0D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CFA2-A94D-474D-937C-277BD8E1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593CF-3F57-4D60-90E1-CF366552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E85B-7CCA-4673-9974-05E87DC0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B830-A29B-4A40-82E0-3850EC38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473-F7AD-4DB2-9750-ED5A0B5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5CF4-EF6A-4750-9E45-47D42165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E537-FF26-4936-B34C-1F80450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55980-7A38-4E4E-A7DC-D411A4A4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06032-7A7E-4D79-9703-FB21B45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B8D1-1B6A-47AD-A603-D1236A2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B3B6-F005-481B-8CF7-2CCA1F3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0B24-0EFE-4744-8704-D3CCFDB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48CA-357D-457A-AB3F-4266B0AC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E27C-9DC0-42B5-A0FB-21F4D58F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8F02-13EB-48BB-9C1B-489E466E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DDB-76E0-4573-B277-65059D60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D30C0-CC66-4893-ADEB-BA1D19B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ACAB6-CCDF-44AD-823F-1A748BC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8A69-9E8D-467B-99B3-0DD27AA8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1F96-74A7-4259-95E9-856D7D09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70CE-D055-497B-8DB8-F343D1EB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C4B2-0B47-4D18-B99F-FCC4353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46359-35CC-470D-8FD5-DDBB8C97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3BEB9-3946-437C-8BB4-A936401F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C4E7-FEE5-48DD-8603-B5F09C85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A3A3-2D2D-4F4A-BA03-1B5FB3FA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DCC-72A8-417D-9A43-007FE6BE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BC1F-C6F6-4B67-A139-5B65343A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B8FB-04C1-42AA-A89C-36017FF9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B35C-C85A-44E1-B10D-5ABB438B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FC8C1-82EA-4AA1-9C2C-2FB5A86C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E1BB-63B2-47B6-AEDB-3D033644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3985-C9EC-4A9F-80CA-8C14291A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52DB2-9831-49FB-B563-C60FC70A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578A-1FD9-4509-88BF-326BBFB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3BE9-0CB5-49A8-B935-CBFC395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2337F-6DE3-4EEC-A805-4E9F52A8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91F-162C-4885-8B7C-B51CE64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6FFE5-B72A-469C-A989-8EE10708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22439-4DC4-4552-B634-89677EE8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33F9-8FFB-4D50-BBE1-06B3E399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6E319-9352-4C2E-8431-B04EECED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3F17E-3EB8-4A83-912C-E9215C5C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938CE-32A7-4BD5-AAAC-471857FF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5F10-6E21-422D-8137-C91A3CAB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7C27-1A4D-4487-96EC-632DFDDF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2F85-D4E7-436A-9610-9E6713C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667C8-406B-44C4-9C3C-C0D7371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6B4-0303-43FA-B318-3B2EB59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7DF05-19F0-443B-A468-116A99C1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0CD6-5D10-46F5-A4AA-E50C568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86A68-5E32-40C0-ABD1-ACEF0B26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45BD-1466-4FB6-ADE9-2B41C7DA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FBEE-1038-45B4-887B-A2741049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CDAC-E534-4B07-8DCA-960FEAAF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3B9C2-5A1A-41EF-8279-17AC7B40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C01F-C0A8-412E-85D4-E3C6EDF7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2A32E-5B4F-4D91-AAA0-90D0F43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2E28-D06F-414D-82D9-BD092704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693-287C-4B6C-B7B6-6BE7860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164B-48A3-4284-97B7-11519770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EC56E-68C4-4984-A6E3-99E6314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62A0-BCA1-450E-AC8E-FE87559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4D0AD-CE80-4431-8A9C-E6D6EA7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9FBE6-3AF2-4E63-B459-0577BAD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9736-35E6-4929-BB8F-E3A9F66E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A6924-6813-4EDA-9C02-3F719E33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9AA1A-BFF7-4FE7-8AFE-63E4923E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B4C19-89DE-49BF-95DC-DBCF16F9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867C8-2482-48CE-AA29-6C6B87E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4A64-79D8-42C3-95FA-B66D4172F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AE07-84CA-469F-BE7F-91AE8CC8BC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D72E-EB4D-4C80-B709-ACAB40F7B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5F61-E27E-463D-AA00-CBD6C1499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8708-A30E-43C9-AF33-D52673D40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988D-F498-4588-BB55-C8DFB3A76C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6D14-79FF-4B97-9B59-780699DA1F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F2E-2A30-4A23-A3A7-C99447DA88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81C-7C69-4DE0-80D0-FEA06018A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ABD-6EF5-4783-8722-6837F256E7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BE2-ACA9-4169-A7D3-69166990BD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F95-AEC7-4B36-B294-4B9555E14F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B0CC-5BE9-4275-9AE2-74169ABBFB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6BCF-0034-4EB0-8712-18697D1EE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3050-8B1A-4F43-8DE0-DE147E96E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06C7-AE85-49BA-B290-0E9799966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A60F-0EB9-437C-A7D5-E19DA0CF2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0ADC-910B-41B2-A1D4-CE1030DF94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DBFC-7031-4D31-951E-0C057DAF4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66DE-D59A-4C4D-95F7-539930A2A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D594-BC8F-4646-A736-F5BAF1921D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0222-E8C2-4D18-B794-CC534ED13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981-9C0A-409B-8E66-D12BB7725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22FC-49D8-4D6D-8CB8-D021A65F7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91B2-ABE5-4882-9DB5-FB8B6D160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A08-FE15-4C5A-9A0C-463F23311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D40E-16F4-4F75-BA9D-7F52DC337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60B-7C06-410C-9AB7-90CFCEB4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14A-3C1A-4A76-A672-330D19D80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6CF6-E6F9-44AB-9788-0006ED0126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CCCC-DF17-4BF3-9E2B-CA5D449ED6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6051-BD37-4E04-A836-A3F1D1875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2C3D-4933-4AF3-846E-DC53F1F05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C234-0E85-4F7A-88D5-699C76945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1CA-1DFA-4411-9BBD-F34504EF9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FB7B-7BF3-477D-A9E3-30713DAB50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3881-7CA2-4557-8238-DF846DA8A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C616-500F-4367-8CBC-D88A07466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3C3A-BE7D-4152-9301-DF2CD6906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AD32-60C9-43E0-9369-2AFE27A18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5760" y="3143160"/>
            <a:ext cx="8772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82440" y="1019160"/>
            <a:ext cx="8979120" cy="4819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5954760" y="3429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8028000" y="3429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3851280" y="537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012000" y="537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028000" y="5373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28680" y="952560"/>
            <a:ext cx="8485200" cy="4952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332000" y="494172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95400" y="1157400"/>
            <a:ext cx="8953200" cy="454320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6146" descr=""/>
          <p:cNvPicPr/>
          <p:nvPr/>
        </p:nvPicPr>
        <p:blipFill>
          <a:blip r:embed="rId2"/>
          <a:stretch/>
        </p:blipFill>
        <p:spPr>
          <a:xfrm>
            <a:off x="3851280" y="5113440"/>
            <a:ext cx="1728720" cy="5587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6147" descr=""/>
          <p:cNvPicPr/>
          <p:nvPr/>
        </p:nvPicPr>
        <p:blipFill>
          <a:blip r:embed="rId3"/>
          <a:stretch/>
        </p:blipFill>
        <p:spPr>
          <a:xfrm>
            <a:off x="6329520" y="5113440"/>
            <a:ext cx="1728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409680" y="2195640"/>
            <a:ext cx="8324640" cy="246672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7170" descr=""/>
          <p:cNvPicPr/>
          <p:nvPr/>
        </p:nvPicPr>
        <p:blipFill>
          <a:blip r:embed="rId2"/>
          <a:stretch/>
        </p:blipFill>
        <p:spPr>
          <a:xfrm>
            <a:off x="3492360" y="2708280"/>
            <a:ext cx="1094040" cy="55872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7171" descr=""/>
          <p:cNvPicPr/>
          <p:nvPr/>
        </p:nvPicPr>
        <p:blipFill>
          <a:blip r:embed="rId3"/>
          <a:stretch/>
        </p:blipFill>
        <p:spPr>
          <a:xfrm>
            <a:off x="4730760" y="2708280"/>
            <a:ext cx="1093680" cy="5587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7172" descr=""/>
          <p:cNvPicPr/>
          <p:nvPr/>
        </p:nvPicPr>
        <p:blipFill>
          <a:blip r:embed="rId4"/>
          <a:stretch/>
        </p:blipFill>
        <p:spPr>
          <a:xfrm>
            <a:off x="6545160" y="2708280"/>
            <a:ext cx="1987560" cy="5587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7173" descr=""/>
          <p:cNvPicPr/>
          <p:nvPr/>
        </p:nvPicPr>
        <p:blipFill>
          <a:blip r:embed="rId5"/>
          <a:stretch/>
        </p:blipFill>
        <p:spPr>
          <a:xfrm>
            <a:off x="3492360" y="3976560"/>
            <a:ext cx="1800360" cy="55908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7174" descr=""/>
          <p:cNvPicPr/>
          <p:nvPr/>
        </p:nvPicPr>
        <p:blipFill>
          <a:blip r:embed="rId6"/>
          <a:stretch/>
        </p:blipFill>
        <p:spPr>
          <a:xfrm>
            <a:off x="6012000" y="3962520"/>
            <a:ext cx="2160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0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